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14.tif" ContentType="image/tiff"/>
  <Override PartName="/ppt/media/image26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2D1F4-3DB3-4DCC-817C-3BD8BFF36B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06262-CC81-4E3B-B5E2-88A49073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801FBD-9A7E-44CF-97C2-1D8C2B9D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62BA77-0921-49D5-AC87-07C923C6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A389AD-39A5-4E2A-9C08-2E8F9F69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D25B95-B8A5-4ED5-A8D2-658C4BC0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71499B-61B8-4835-B4E0-B257B123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EF9046-2878-4FBC-A134-83E2F7D6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EB2EB8-69F1-47D2-A026-8F5EE75D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2E20BC-D30E-4A44-9584-859E4CFE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0566F4-B312-4A6E-B6A6-44667E55A1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CC067-5459-454A-87DB-CDA92E80EF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A5D7C-0FE5-46F7-AB92-A61800B2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6C4F7-D5B7-49E8-825F-13AF14AF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D1568-8A5A-41A6-9C6F-D6A7F6B0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CC68B-8EEA-459A-9EA1-78C7B830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4FA73-8CAD-4C78-97AC-2C85D8C5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A638A-0D38-4A31-A211-C2C58D74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D614A-AF59-4BE4-8625-222A9FAC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CD180-D039-4090-8356-2AC1F85E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1AA1E-AEFC-493A-ACA5-FDEDE476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0D9E4-F81A-4298-BA28-CD4F456E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3778D-8C55-4E9C-9B5D-41900FCD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B43C5-A0D0-4132-A514-4999FB9CB1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00497-598E-4D23-955A-6ED009182F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CB6D57-9B04-4DC3-B3F4-4757B19474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F7C90E-ABE6-4B9C-A2E5-43BEA0C9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0043FD-D09F-4457-98CA-CF430AA1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17DA8D-28AB-4659-A67C-6E885DFA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EC7582-38C2-4700-84DD-4FE84246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F32F7A-F6B8-42C0-B9BB-2C0198F4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D2272D-27C4-4291-B049-28A476FC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BA1E81-8330-4E03-BD45-47DE0EF2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AFD6DE-6EC0-4B39-B8D5-2C2CC19E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C9B36-29BA-4ECB-9A27-47B5AD99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625BFF-4B0C-42FE-BF99-C8FD0044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6AC235-9E87-4921-8EE0-DF126E21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7A76B7-B4D8-439D-8C7F-11FD45D1F3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528377-4840-4534-93D7-236C9A5CC0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30B0C-1592-4E7B-B72C-DE137498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50A09-1904-4661-A7B8-B1D401D7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AD1BD1-4078-45D7-AD55-F3213032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4DD13C-4C6D-498A-98E0-5F03D33A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5DCB29-729F-4768-BB90-B4859E63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92219-48D0-4B97-AF07-5E5ED59E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1DAA9-7413-461B-89A1-2AC6F8C7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88BDA6-7338-4583-B87D-406CEB80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CBD9C9-7305-40FC-A434-7FD12E21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B28DA8-8314-4B56-98C5-724C76F7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AFBE62-062C-4F5E-94BF-3BA4968C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664F3-7D33-46A7-923F-1351E7BE20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2513F-7EC0-4F54-9DD3-42071CCE04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9E395-55E2-4322-A2C8-42E7C7A8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277A6-3649-4CF3-AEF2-2A289A85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907D3-D8C0-4044-8BF4-FFDF361F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6339C-C72B-473A-A0AC-1FACB0BF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67FE0-1AAA-4171-9042-F2B22190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9F2D5-4A6A-4C59-B89A-98DC2A40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7A80E-88DC-4D18-B9E2-80652CD3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F9558-DCDF-423D-AA5F-A7BFDFD5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70AA7-BC99-4134-BB8F-438759ED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FA126-2EAB-419A-838B-0D5F78F0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1713B-A2B3-4AC3-963A-1454BD36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9259A-1FDC-4FC1-B622-B4B9B06C9C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7ABDB-8724-4740-B3B5-937C6D15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C67EF-93CB-479F-AFBC-46DAE36C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F5E25-3806-4BEC-9E8B-6B4F5129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BF7C2-AD8B-495B-906B-76270231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79057-8A89-4C7E-9139-9941007A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74A12-AB44-4521-BEEC-A7E09479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BC50A-E86F-4B11-8A91-FB26FC53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FE854-456C-4351-BAB4-679A1084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667E5-39BB-4F6E-A759-B75EFC19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1EE5B-B9B1-4784-8DE8-94ED2333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0BDE8-22CB-4756-A5E7-5AA6DF90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28FE1-652A-41C2-A7CF-52C71C9E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969F8-FF0F-4C97-9409-E86A4289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B2A63-258F-4BCC-BAC9-80198EAA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46926-A9B8-48FC-A0A6-C008648B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9CDDB-90F5-4343-B4F1-9D48087B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C2E7D-DEBD-4DD4-992A-4FEA784F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E713B-AAA5-4B85-B47D-7CB25CFB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42DA9-8468-42D6-9848-492A2523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CE4B1-DD73-4F22-8097-4843A758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B0A0C-6AC7-43F0-BDB6-88099558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7D9C3-8B85-456E-820B-A66E04E7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02BF7-E117-43BE-A444-F789D5DD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007C7-85F3-4828-A1C3-9F44315F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64F4B-4715-45A1-91D9-19C78EFE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BD066-31A7-4EE3-8EB9-11EF79F6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5994D-EC6D-4ECC-8670-04BF6CF9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49EB0-57C5-437F-85BF-41CFA1C0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B5B06-017F-481B-9E2C-53D5B119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382BA-D272-4AED-9701-432F0DB8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4A788-04E2-4192-9FD0-822EB4D4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47CDD-C5BF-4105-8781-2F2EEDDD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8766D-099A-40EE-91B0-82C58462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88A92-850D-4077-B14D-AC2643C2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8128C-8BC2-4BDB-A393-D858D8ED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FE3E1-8401-4E7D-A473-F8EEB86A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9953B-DEDF-442F-B7F2-0D7D1F1B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44AAA-2694-4ACB-BE41-F47416FA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EAB89-73F0-490D-99E2-D3F8BDD4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F82A2-A2A8-413E-8108-AA8448A1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68E75-C2F4-4482-81B4-A4EF5E65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DDD315-3F1D-47B6-BC5B-A40A3602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91B00-1711-4965-9A8E-BBA91176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208A5-166C-4593-829C-1CA0BAC0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C49FA8-925C-43F0-B195-736631E2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6F35C4-DFAA-427D-83B3-46122251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189EB0-0655-49E7-86A8-0744302A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90E1D-4748-44BD-8CCE-44787832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75D1F-8067-4842-8F2D-8E2CB417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89BA4-4E7A-418B-BA1C-AF8A88A5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A6992-25AF-4A0A-88DD-D5F0BF00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1121D-162D-4CB1-A92B-4AEDB28F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6ED122-639C-4CB6-A29E-BA19812F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05DDA5-F1C1-4F1F-B74A-832E06C3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63158-3575-459F-B8D8-CA6ED700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7C7067-AB4C-42A2-BC94-53E0D0D1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355BAF-5B6D-4D9A-B6A9-0CA4A764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CD05DC-FC5F-4E4D-891F-D54A3005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AD4D29-2F1B-47D3-A94A-B88EE2F9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62ABD-48EB-43DC-B14A-6F8C5A67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25A83F-52F8-4EDA-9D77-A62DF159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EA38C5-F03B-4957-B69D-64FAD9AB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43E162-49F0-405C-AA0D-1F387E67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C97FB6-31AB-47C8-A92F-0D470C80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C36B7F-65D0-445B-A34E-3FDCFA12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1DEFD3-98A7-46D0-B7CB-96C04C98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C8027C-3F2E-4835-9315-533D2B1D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8147C5-F26F-4F33-8DE3-073E1F2B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10295C-D7D5-4EF7-A806-1771583B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9F8041-109C-48C0-AA26-9D5E8807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A369D-5618-4CD3-866B-465728AB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61B039-DB57-4701-AC29-FB7693EC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615491-FFCC-48A1-A831-9FF2B97C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5588DA-90D2-4F1E-8F77-3B1FEDB7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EC0D59-7AF4-41BE-BEDD-5DCD8B74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D1DEB6-1D9C-4133-9DB0-E67183B7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F37CEB-3693-415F-9D4E-BFA712AF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C8A5B7-CC9C-4898-BA66-24D4E603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0ECDAE-CD63-477A-BFB9-876B9EB2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68C64A-20EF-4213-9D50-0598CD6D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3A2712-4D92-4CEA-AB46-D7F3EEFE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941A5-8708-4E2F-B3FC-A40418E2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CA167D-6998-418A-A3B7-1B8F6B43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142F01-3033-4663-8EF5-6AF2BCDD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208EDC-EB7D-435E-B0ED-5F025813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A2121E-3AD3-4002-A9C5-6B185C8F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19BD0B-1558-4FB8-8BE8-3627A2EE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12908A-FA2B-40F0-B884-EC1DCE8C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A431CF-4B6A-4E3C-BE33-7EA3E969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3BD958-AB7E-448F-98AE-07672E78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F83FA7-78E1-48D7-BCBB-467A091D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D05D14-0309-4268-A388-F172CF77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1EE73-DF02-4DAA-8628-B2E37628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D6D16C-F796-40F3-BFC9-A0FFF4E9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196E8B-FEB7-49A2-8B9C-C2D03BC6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C76937-4A3E-42D9-93CE-6068631B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64D26A-BFC9-41D5-B834-F31C352D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2D1DED-8AC1-4251-8363-CA8261D6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F6A669-7691-4A19-8D09-B854C8AA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72A9E8-1C24-4043-9A4E-844E109F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FC5FBC-C1B8-4D29-ACC6-987FB1C6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76AB5F-E56F-4E0C-88F3-F2A3C6B3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B18F27-D64C-4F1D-A839-1FD53D00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6361B4-FD29-476F-8D98-A8AC6BE8D7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EF7EF8-50DD-4F2A-BADF-21136C46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FDFC06-CA89-47BF-B8EC-058BAB33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F68156-B046-42BA-930B-4B6F32AE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D451E6-76F9-4B05-9B05-44E6C237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7BBD1C-C132-4A77-B02A-D296ED26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F3674B-F1BE-406B-8AFA-2E3E49CF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F8D1DB-095F-4C52-B67A-22AD2527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9EEBE4-6C0C-4947-AF3B-F4131F29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38BE9E-51DE-48DF-A259-08E22D77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EA49EE-EDE6-44BB-8E3A-05CA07D2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5339BA-E102-4595-A81B-BB75BC81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1B2935-DBAA-417C-A9A6-0F286016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C2F58C-BE2F-4E3B-A1D5-404C7DCF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0E7EDA-49CA-46C3-A8D3-2AFFBCC7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50FA4E-DD1D-410A-8058-1F0ED1F6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0E1ECB-D940-46D2-A8BF-6A0EB154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2B1B67-CF13-42B0-9C9B-FD8DD1BB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25BDC8-E029-489E-B9BC-8A5F2B36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FC978D-5C1A-43C9-B295-2BC98130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0CCE12-D28A-4BC5-AEF9-C038E6D7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D2CC5C-EA45-43CC-90C0-D8BE5EEB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1A999E-3D3E-459B-9BA9-3F62A0ED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074A1A-59CB-42CC-9DC9-BF06E8A3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4F5B8F-557D-4639-A9EB-4DEF3FC2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F3F134-54DA-488A-95EB-BF92DDA6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C0F1F4-8F99-493E-A512-EA1EA7CF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A9AF73-07C4-4B23-A695-1D484FDD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95E2FB-9654-4AD8-A0FE-78B13633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48E969-2065-4727-B313-AAFF6480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A20605-FF8A-41CF-80BB-5C0F81E0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8EB4D0-7DD6-415B-BC69-A190214F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EE51D6-FDA9-4939-9A0B-1B5337AB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B16CFA-BD3A-4B36-AF8F-481C2D21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81E964-E773-43B4-8252-5C7A2C84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C803D4-23A5-4FC4-90CD-3DCC42F6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CF5D0D-9F07-4D73-9BA7-FA20E718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191AC2-82A2-426C-9A0A-CA39F5E9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5946D0-F07C-4329-AA25-7B887670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655E75-14AD-4252-8E7A-F3D25CBD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5CF8B0-E358-43F5-BC8D-199CE7F1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A9B683-8ADC-4220-BB2F-FBC3A4C7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A12072-132B-4768-A09E-576D2ED4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F4A665-62CD-42A0-BF43-19719A39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58CF4-0F50-4425-B4EA-6D0BB66C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C396F2-876B-4543-80A7-884AA21E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26FCBC-8752-461E-B40A-BB886190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C28404-2F65-41CC-8608-4753BBAE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1F9791-12DA-497A-AE17-B922D75E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4C7598-E3A8-4D5E-9A32-7175A4FE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A82E6D-EF3B-4744-B538-14674E98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1EA054-9809-408B-A838-7E4F76B672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69D8B-10E5-4974-BED0-D1B74290D6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AC0B4-5478-4734-B758-439FC8BE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5A5E6-6F23-4CE5-A41F-19DC4213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44A1A-B3A5-4F7A-902E-8F17C6F6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68D30-E692-4C22-8E72-E86627E0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B1AE2-A75A-49CB-8B2C-0795BDDA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9BD8C-5854-4239-9BEA-B71C136D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18C37-2D65-463E-AD22-3E2DDB45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FD10D-D425-4683-88C1-0AD828A5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41D29-B74C-4DF1-93BF-47BE2DCE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C446D-D2DD-4391-8FB6-78EE8FB9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29A07-2D78-47FD-81FC-70770595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3C84A-8F19-4127-A90A-D7AC8A25E0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7ED42A-7DEE-43A5-B4CC-E451A58607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AC58C-3C32-4423-8D69-01A9A023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EC1534-E2A4-451C-909B-651C63AF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C80E8E-77F3-4939-BDDC-567974EC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EC6B7B-7A89-4ACF-9B98-28F31B62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77E62A-0BDF-4316-A33A-FFCBD5A3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6C339C-D323-4A0D-8F11-B46FF551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33C500-A413-4269-83C2-4DE0F3E5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2BF6B2-3A6F-44F9-BEFA-394B5BA4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CDE473-2BBA-4837-A930-A46F792F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26594E-B734-407D-A3E3-BBFF272F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A7F6CE-00C4-4DE6-8E89-60F735F1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6569A-47C0-4B3B-A345-D9F76D81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F27054-5566-483F-B661-D9C7738D37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DF704A-A7E1-495A-9CDF-444A0BD866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BA9CA3-F227-4C35-A2D1-B2B55544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606A1E-0883-4B29-9BAA-056708E2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B77ED3-23B8-4144-98E8-C1650ED6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936C01-0E30-4A0B-9E89-47902E7D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442CDB-F414-483E-AC12-C978E780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1E8E47-7205-40DB-9C99-FBFE1586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631B97-A054-4F07-A8C0-5D0A7BA6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3C7419-E966-4166-9D92-75FA185D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5BC70-8C1E-4513-A3F1-75AB7693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043E5C-09CC-4738-A74D-BB04C2CF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3FA174-BCA5-4989-BFA5-66BD1D42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800104-62B9-416A-9488-7B420AA0ED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41523-D884-45C2-B350-E7E2101305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B29D7-C17F-4476-BD31-2ACD4F60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77583-F063-4FAB-A87D-5DB29368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D5E77-25B8-40B9-B5AB-A0EBDEFC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9F91C-61F3-4B1A-8383-EBD84127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A0943-E988-4EC3-BF80-6933AF8A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45851-8383-495A-96A5-FE2728F3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901B6-5595-4009-832C-462F63A5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86249-B282-4B05-B2CF-BCC36139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7DC7C-BE9C-46E7-A458-3BDABE30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70E53-1390-471F-B0F0-64B11733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D5B6F-C7D8-4268-9C80-387E9129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F0F25-C757-49E6-9DCD-6C01C0E064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8CAE1D-2E93-4763-936E-E3D2B18C01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174DD7-2A1A-4D4F-B991-AAC2451B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0357C3-D55E-43D2-B5B6-3C776C55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37FBF4-9344-4509-8DCA-E727A563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CEA044-EB99-47DB-A88E-29C11520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4AD2E-90B9-4C39-AF4F-B1FF026A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5D7384-1DC8-4B89-9602-5E3CBB6D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2072F7-C515-4AEE-A0F9-C9824746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35C989-DBC0-49CE-87D8-DA0AC351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CBA117-DA26-4F4F-9E85-96388F9F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650F83-ECCC-4CE0-A1BD-08ACC8DA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6D01B2-F3B2-4BC3-B623-AE871F8B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41E4AB-127A-4E86-A1FE-F26456BB0D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00CFC9-E658-4BCE-A881-E2542D2AA3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47D631-76F2-4B16-9291-7116EEE1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16248E-430B-4384-A146-04FD51CB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1BA8-5865-4FBF-B630-2E2FED40012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297A-F367-4A5A-A529-FC167535777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10B1-AE2C-4AD9-9252-21EDD8369E6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AC7B-51BE-4A9A-9B48-64EAD7FF5E5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3B4C-D6EA-4C8F-803B-97D72501E7C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93A5-CFB2-4F78-B92B-2F2BB036C82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5692-D594-44E8-B5F4-D8CAB7FE977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C872-0820-4E94-973D-1D1ABC6B32B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0266-999F-4611-BE84-93BCC9B4C5A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7ECB-CAC3-4921-83A1-FF748A65F2B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3649-1528-41DB-9F0E-F5D2B5E2DCA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5E09-7273-42CE-AF9C-29D977D17D9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B2F3-763B-401D-A809-24CF5DB7277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C7C7-FE37-43D2-A550-FF31F4C5797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FF72-0B9D-4C98-BE6B-98E5D231F81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6FC4-AA9F-4049-895D-4850B948C9E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CC83-8605-495D-B522-3A366FDCC21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9C37-8113-42D0-848F-96F482F1A45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A648-0064-46D2-87FB-0E4722A28C7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0755-B41D-4543-860E-792AF3DB334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47CC-25A8-401F-89D3-92AF38E55CC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A45C-5375-4E36-A866-EE12AF8A49A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A778-201A-4367-8DAE-2B847742FC9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41D3-C638-40F5-83EB-C25E96BE140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4.tif"/><Relationship Id="rId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3.jpe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4333680" cy="360"/>
            <a:chOff x="2284560" y="2448000"/>
            <a:chExt cx="433368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43336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4333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9"/>
          <p:cNvSpPr/>
          <p:nvPr/>
        </p:nvSpPr>
        <p:spPr>
          <a:xfrm>
            <a:off x="-146160" y="1744560"/>
            <a:ext cx="62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 的 认 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5"/>
          <p:cNvSpPr/>
          <p:nvPr/>
        </p:nvSpPr>
        <p:spPr>
          <a:xfrm>
            <a:off x="2898720" y="2716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6"/>
          <p:cNvSpPr/>
          <p:nvPr/>
        </p:nvSpPr>
        <p:spPr>
          <a:xfrm>
            <a:off x="2355840" y="2666880"/>
            <a:ext cx="651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倍 的 认 识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30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7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308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09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0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16" name="文本框 99"/>
          <p:cNvSpPr/>
          <p:nvPr/>
        </p:nvSpPr>
        <p:spPr>
          <a:xfrm>
            <a:off x="365040" y="722160"/>
            <a:ext cx="83376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列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 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是多少？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 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文本框 10"/>
          <p:cNvSpPr/>
          <p:nvPr/>
        </p:nvSpPr>
        <p:spPr>
          <a:xfrm>
            <a:off x="1650960" y="264780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=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文本框 3"/>
          <p:cNvSpPr/>
          <p:nvPr/>
        </p:nvSpPr>
        <p:spPr>
          <a:xfrm>
            <a:off x="5973840" y="264780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=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32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1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322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23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4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2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30" name="文本框 99"/>
          <p:cNvSpPr/>
          <p:nvPr/>
        </p:nvSpPr>
        <p:spPr>
          <a:xfrm>
            <a:off x="365040" y="1046160"/>
            <a:ext cx="810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3040" indent="-20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 妈妈买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苹果，买的梨是苹果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   妈妈买了多少千克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文本框 10"/>
          <p:cNvSpPr/>
          <p:nvPr/>
        </p:nvSpPr>
        <p:spPr>
          <a:xfrm>
            <a:off x="3083040" y="2344680"/>
            <a:ext cx="27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=2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千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文本框 3"/>
          <p:cNvSpPr/>
          <p:nvPr/>
        </p:nvSpPr>
        <p:spPr>
          <a:xfrm>
            <a:off x="2219400" y="3535200"/>
            <a:ext cx="4705200" cy="10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妈妈买了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千克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01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 Box 30"/>
          <p:cNvSpPr/>
          <p:nvPr/>
        </p:nvSpPr>
        <p:spPr>
          <a:xfrm>
            <a:off x="1403280" y="1760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第一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Group 58"/>
          <p:cNvGrpSpPr/>
          <p:nvPr/>
        </p:nvGrpSpPr>
        <p:grpSpPr>
          <a:xfrm>
            <a:off x="2576520" y="1657440"/>
            <a:ext cx="840960" cy="812520"/>
            <a:chOff x="2576520" y="1657440"/>
            <a:chExt cx="840960" cy="812520"/>
          </a:xfrm>
        </p:grpSpPr>
        <p:pic>
          <p:nvPicPr>
            <p:cNvPr id="1011" name="Picture 59" descr="58"/>
            <p:cNvPicPr/>
            <p:nvPr/>
          </p:nvPicPr>
          <p:blipFill>
            <a:blip r:embed="rId8"/>
            <a:stretch/>
          </p:blipFill>
          <p:spPr>
            <a:xfrm>
              <a:off x="2576520" y="1665720"/>
              <a:ext cx="582480" cy="80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2" name="Picture 60" descr="58"/>
            <p:cNvPicPr/>
            <p:nvPr/>
          </p:nvPicPr>
          <p:blipFill>
            <a:blip r:embed="rId9"/>
            <a:stretch/>
          </p:blipFill>
          <p:spPr>
            <a:xfrm>
              <a:off x="2835000" y="1657440"/>
              <a:ext cx="582480" cy="80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3" name="Group 106"/>
          <p:cNvGrpSpPr/>
          <p:nvPr/>
        </p:nvGrpSpPr>
        <p:grpSpPr>
          <a:xfrm>
            <a:off x="1403280" y="2689200"/>
            <a:ext cx="4424040" cy="812160"/>
            <a:chOff x="1403280" y="2689200"/>
            <a:chExt cx="4424040" cy="812160"/>
          </a:xfrm>
        </p:grpSpPr>
        <p:sp>
          <p:nvSpPr>
            <p:cNvPr id="1014" name="Text Box 31"/>
            <p:cNvSpPr/>
            <p:nvPr/>
          </p:nvSpPr>
          <p:spPr>
            <a:xfrm>
              <a:off x="1403280" y="27860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第二行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5" name="Group 105"/>
            <p:cNvGrpSpPr/>
            <p:nvPr/>
          </p:nvGrpSpPr>
          <p:grpSpPr>
            <a:xfrm>
              <a:off x="2576520" y="2689200"/>
              <a:ext cx="3250800" cy="812160"/>
              <a:chOff x="2576520" y="2689200"/>
              <a:chExt cx="3250800" cy="812160"/>
            </a:xfrm>
          </p:grpSpPr>
          <p:grpSp>
            <p:nvGrpSpPr>
              <p:cNvPr id="1016" name="Group 93"/>
              <p:cNvGrpSpPr/>
              <p:nvPr/>
            </p:nvGrpSpPr>
            <p:grpSpPr>
              <a:xfrm>
                <a:off x="2576520" y="2689200"/>
                <a:ext cx="840960" cy="812160"/>
                <a:chOff x="2576520" y="2689200"/>
                <a:chExt cx="840960" cy="812160"/>
              </a:xfrm>
            </p:grpSpPr>
            <p:pic>
              <p:nvPicPr>
                <p:cNvPr id="1017" name="Picture 94" descr="58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576520" y="2697480"/>
                  <a:ext cx="582480" cy="803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8" name="Picture 95" descr="58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835000" y="2689200"/>
                  <a:ext cx="582480" cy="803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19" name="Group 96"/>
              <p:cNvGrpSpPr/>
              <p:nvPr/>
            </p:nvGrpSpPr>
            <p:grpSpPr>
              <a:xfrm>
                <a:off x="3376440" y="2689200"/>
                <a:ext cx="841680" cy="812160"/>
                <a:chOff x="3376440" y="2689200"/>
                <a:chExt cx="841680" cy="812160"/>
              </a:xfrm>
            </p:grpSpPr>
            <p:pic>
              <p:nvPicPr>
                <p:cNvPr id="1020" name="Picture 97" descr="58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376440" y="2697480"/>
                  <a:ext cx="582840" cy="803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1" name="Picture 98" descr="58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635280" y="2689200"/>
                  <a:ext cx="582840" cy="803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22" name="Group 99"/>
              <p:cNvGrpSpPr/>
              <p:nvPr/>
            </p:nvGrpSpPr>
            <p:grpSpPr>
              <a:xfrm>
                <a:off x="4176720" y="2689200"/>
                <a:ext cx="840960" cy="812160"/>
                <a:chOff x="4176720" y="2689200"/>
                <a:chExt cx="840960" cy="812160"/>
              </a:xfrm>
            </p:grpSpPr>
            <p:pic>
              <p:nvPicPr>
                <p:cNvPr id="1023" name="Picture 100" descr="58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4176720" y="2697480"/>
                  <a:ext cx="582480" cy="803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4" name="Picture 101" descr="58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435200" y="2689200"/>
                  <a:ext cx="582480" cy="803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25" name="Group 102"/>
              <p:cNvGrpSpPr/>
              <p:nvPr/>
            </p:nvGrpSpPr>
            <p:grpSpPr>
              <a:xfrm>
                <a:off x="4986360" y="2689200"/>
                <a:ext cx="840960" cy="812160"/>
                <a:chOff x="4986360" y="2689200"/>
                <a:chExt cx="840960" cy="812160"/>
              </a:xfrm>
            </p:grpSpPr>
            <p:pic>
              <p:nvPicPr>
                <p:cNvPr id="1026" name="Picture 103" descr="58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4986360" y="2697480"/>
                  <a:ext cx="582480" cy="803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7" name="Picture 104" descr="58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5244840" y="2689200"/>
                  <a:ext cx="582480" cy="803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028" name="组合 37"/>
          <p:cNvGrpSpPr/>
          <p:nvPr/>
        </p:nvGrpSpPr>
        <p:grpSpPr>
          <a:xfrm>
            <a:off x="5030640" y="1230480"/>
            <a:ext cx="3081240" cy="1164960"/>
            <a:chOff x="5030640" y="1230480"/>
            <a:chExt cx="3081240" cy="1164960"/>
          </a:xfrm>
        </p:grpSpPr>
        <p:sp>
          <p:nvSpPr>
            <p:cNvPr id="1029" name="AutoShape 27"/>
            <p:cNvSpPr/>
            <p:nvPr/>
          </p:nvSpPr>
          <p:spPr>
            <a:xfrm>
              <a:off x="5030640" y="1456200"/>
              <a:ext cx="2039760" cy="939240"/>
            </a:xfrm>
            <a:prstGeom prst="wedgeRoundRectCallout">
              <a:avLst>
                <a:gd name="adj1" fmla="val 56847"/>
                <a:gd name="adj2" fmla="val -1418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数一数第一行有几根小棒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0" name="图片 35" descr="]@P`{@U$K{A7A$9804YYMFT"/>
            <p:cNvPicPr/>
            <p:nvPr/>
          </p:nvPicPr>
          <p:blipFill>
            <a:blip r:embed="rId18"/>
            <a:stretch/>
          </p:blipFill>
          <p:spPr>
            <a:xfrm flipH="1">
              <a:off x="7335720" y="1230480"/>
              <a:ext cx="776160" cy="98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1" name="组合 38"/>
          <p:cNvGrpSpPr/>
          <p:nvPr/>
        </p:nvGrpSpPr>
        <p:grpSpPr>
          <a:xfrm>
            <a:off x="1015560" y="4367160"/>
            <a:ext cx="4996440" cy="1339920"/>
            <a:chOff x="1015560" y="4367160"/>
            <a:chExt cx="4996440" cy="1339920"/>
          </a:xfrm>
        </p:grpSpPr>
        <p:sp>
          <p:nvSpPr>
            <p:cNvPr id="1032" name="AutoShape 27"/>
            <p:cNvSpPr/>
            <p:nvPr/>
          </p:nvSpPr>
          <p:spPr>
            <a:xfrm>
              <a:off x="2268720" y="4367160"/>
              <a:ext cx="3743280" cy="496440"/>
            </a:xfrm>
            <a:prstGeom prst="wedgeRoundRectCallout">
              <a:avLst>
                <a:gd name="adj1" fmla="val -56055"/>
                <a:gd name="adj2" fmla="val 5478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二行小棒的根数是第一行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倍，第二行摆多少根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3" name="图片 36" descr="_4`F[E$PX4I}_~SSZVJ7V4J"/>
            <p:cNvPicPr/>
            <p:nvPr/>
          </p:nvPicPr>
          <p:blipFill>
            <a:blip r:embed="rId19"/>
            <a:stretch/>
          </p:blipFill>
          <p:spPr>
            <a:xfrm flipH="1">
              <a:off x="1015560" y="4367160"/>
              <a:ext cx="883800" cy="1339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3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6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37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8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45" name="Picture 6" descr="D:\我的文档-桌面-收藏夹\桌面\1.jpg"/>
          <p:cNvPicPr/>
          <p:nvPr/>
        </p:nvPicPr>
        <p:blipFill>
          <a:blip r:embed="rId8"/>
          <a:stretch/>
        </p:blipFill>
        <p:spPr>
          <a:xfrm>
            <a:off x="1282680" y="1017720"/>
            <a:ext cx="3422520" cy="2482560"/>
          </a:xfrm>
          <a:prstGeom prst="rect">
            <a:avLst/>
          </a:prstGeom>
          <a:ln w="0">
            <a:noFill/>
          </a:ln>
        </p:spPr>
      </p:pic>
      <p:sp>
        <p:nvSpPr>
          <p:cNvPr id="1046" name="AutoShape 27"/>
          <p:cNvSpPr/>
          <p:nvPr/>
        </p:nvSpPr>
        <p:spPr>
          <a:xfrm>
            <a:off x="4002120" y="874800"/>
            <a:ext cx="3571920" cy="1071360"/>
          </a:xfrm>
          <a:prstGeom prst="wedgeRoundRectCallout">
            <a:avLst>
              <a:gd name="adj1" fmla="val -56972"/>
              <a:gd name="adj2" fmla="val 3964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军棋的价钱是</a:t>
            </a: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8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元，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棋的价钱是军棋的</a:t>
            </a: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倍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Box 6"/>
          <p:cNvSpPr/>
          <p:nvPr/>
        </p:nvSpPr>
        <p:spPr>
          <a:xfrm>
            <a:off x="4073400" y="2143080"/>
            <a:ext cx="3571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象棋的价钱是多少元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八边形 3"/>
          <p:cNvSpPr/>
          <p:nvPr/>
        </p:nvSpPr>
        <p:spPr>
          <a:xfrm>
            <a:off x="324000" y="1004760"/>
            <a:ext cx="51408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Box 3"/>
          <p:cNvSpPr/>
          <p:nvPr/>
        </p:nvSpPr>
        <p:spPr>
          <a:xfrm>
            <a:off x="439560" y="3427560"/>
            <a:ext cx="349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6d86a4"/>
                </a:solidFill>
                <a:latin typeface="Arial"/>
                <a:ea typeface="宋体"/>
              </a:rPr>
              <a:t>阅读与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0" name=""/>
          <p:cNvGraphicFramePr/>
          <p:nvPr/>
        </p:nvGraphicFramePr>
        <p:xfrm>
          <a:off x="838080" y="4157640"/>
          <a:ext cx="4803840" cy="1554120"/>
        </p:xfrm>
        <a:graphic>
          <a:graphicData uri="http://schemas.openxmlformats.org/drawingml/2006/table">
            <a:tbl>
              <a:tblPr/>
              <a:tblGrid>
                <a:gridCol w="1182600"/>
                <a:gridCol w="36212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已知条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军棋的价钱是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元，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棋的价钱是军棋的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倍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7fbd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所求问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象棋的价钱是多少元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5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54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5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6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2" name="TextBox 3"/>
          <p:cNvSpPr/>
          <p:nvPr/>
        </p:nvSpPr>
        <p:spPr>
          <a:xfrm>
            <a:off x="365040" y="844560"/>
            <a:ext cx="349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  <a:ea typeface="宋体"/>
              </a:rPr>
              <a:t>分析与解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组合 31"/>
          <p:cNvGrpSpPr/>
          <p:nvPr/>
        </p:nvGrpSpPr>
        <p:grpSpPr>
          <a:xfrm>
            <a:off x="1685880" y="2357280"/>
            <a:ext cx="2127240" cy="797400"/>
            <a:chOff x="1685880" y="2357280"/>
            <a:chExt cx="2127240" cy="797400"/>
          </a:xfrm>
        </p:grpSpPr>
        <p:sp>
          <p:nvSpPr>
            <p:cNvPr id="1064" name="Text Box 7"/>
            <p:cNvSpPr/>
            <p:nvPr/>
          </p:nvSpPr>
          <p:spPr>
            <a:xfrm>
              <a:off x="1685880" y="2357280"/>
              <a:ext cx="1152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军棋：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5" name="Group 8"/>
            <p:cNvGrpSpPr/>
            <p:nvPr/>
          </p:nvGrpSpPr>
          <p:grpSpPr>
            <a:xfrm>
              <a:off x="2693880" y="2501640"/>
              <a:ext cx="792000" cy="72720"/>
              <a:chOff x="2693880" y="2501640"/>
              <a:chExt cx="792000" cy="72720"/>
            </a:xfrm>
          </p:grpSpPr>
          <p:grpSp>
            <p:nvGrpSpPr>
              <p:cNvPr id="1066" name=""/>
              <p:cNvGrpSpPr/>
              <p:nvPr/>
            </p:nvGrpSpPr>
            <p:grpSpPr>
              <a:xfrm>
                <a:off x="2693880" y="2574000"/>
                <a:ext cx="791640" cy="360"/>
                <a:chOff x="2693880" y="2574000"/>
                <a:chExt cx="791640" cy="360"/>
              </a:xfrm>
            </p:grpSpPr>
            <p:sp>
              <p:nvSpPr>
                <p:cNvPr id="1067" name="Line 9"/>
                <p:cNvSpPr/>
                <p:nvPr/>
              </p:nvSpPr>
              <p:spPr>
                <a:xfrm>
                  <a:off x="2693880" y="2574000"/>
                  <a:ext cx="791640" cy="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 txBox="1"/>
                <p:nvPr/>
              </p:nvSpPr>
              <p:spPr>
                <a:xfrm>
                  <a:off x="2693880" y="2574000"/>
                  <a:ext cx="79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9" name=""/>
              <p:cNvGrpSpPr/>
              <p:nvPr/>
            </p:nvGrpSpPr>
            <p:grpSpPr>
              <a:xfrm>
                <a:off x="2693880" y="2501640"/>
                <a:ext cx="360" cy="72360"/>
                <a:chOff x="2693880" y="2501640"/>
                <a:chExt cx="360" cy="72360"/>
              </a:xfrm>
            </p:grpSpPr>
            <p:sp>
              <p:nvSpPr>
                <p:cNvPr id="1070" name="Line 10"/>
                <p:cNvSpPr/>
                <p:nvPr/>
              </p:nvSpPr>
              <p:spPr>
                <a:xfrm>
                  <a:off x="2693880" y="2501640"/>
                  <a:ext cx="360" cy="72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 txBox="1"/>
                <p:nvPr/>
              </p:nvSpPr>
              <p:spPr>
                <a:xfrm>
                  <a:off x="2693880" y="2501640"/>
                  <a:ext cx="360" cy="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2" name=""/>
              <p:cNvGrpSpPr/>
              <p:nvPr/>
            </p:nvGrpSpPr>
            <p:grpSpPr>
              <a:xfrm>
                <a:off x="3485520" y="2501640"/>
                <a:ext cx="360" cy="72360"/>
                <a:chOff x="3485520" y="2501640"/>
                <a:chExt cx="360" cy="72360"/>
              </a:xfrm>
            </p:grpSpPr>
            <p:sp>
              <p:nvSpPr>
                <p:cNvPr id="1073" name="Line 11"/>
                <p:cNvSpPr/>
                <p:nvPr/>
              </p:nvSpPr>
              <p:spPr>
                <a:xfrm>
                  <a:off x="3485520" y="2501640"/>
                  <a:ext cx="360" cy="72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 txBox="1"/>
                <p:nvPr/>
              </p:nvSpPr>
              <p:spPr>
                <a:xfrm>
                  <a:off x="3485520" y="2501640"/>
                  <a:ext cx="360" cy="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5" name="AutoShape 12"/>
            <p:cNvSpPr/>
            <p:nvPr/>
          </p:nvSpPr>
          <p:spPr>
            <a:xfrm rot="16200000">
              <a:off x="3051720" y="2288520"/>
              <a:ext cx="76320" cy="7920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5"/>
                    <a:pt x="10800" y="1789"/>
                  </a:cubicBezTo>
                  <a:lnTo>
                    <a:pt x="10800" y="9011"/>
                  </a:lnTo>
                  <a:cubicBezTo>
                    <a:pt x="10800" y="9906"/>
                    <a:pt x="5400" y="10800"/>
                    <a:pt x="0" y="10800"/>
                  </a:cubicBezTo>
                  <a:cubicBezTo>
                    <a:pt x="5400" y="10800"/>
                    <a:pt x="10800" y="11695"/>
                    <a:pt x="10800" y="12589"/>
                  </a:cubicBezTo>
                  <a:lnTo>
                    <a:pt x="10800" y="19811"/>
                  </a:lnTo>
                  <a:cubicBezTo>
                    <a:pt x="10800" y="20706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Text Box 13"/>
            <p:cNvSpPr/>
            <p:nvPr/>
          </p:nvSpPr>
          <p:spPr>
            <a:xfrm>
              <a:off x="2805120" y="2679840"/>
              <a:ext cx="1008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8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元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组合 33"/>
          <p:cNvGrpSpPr/>
          <p:nvPr/>
        </p:nvGrpSpPr>
        <p:grpSpPr>
          <a:xfrm>
            <a:off x="3286080" y="3286080"/>
            <a:ext cx="2143080" cy="500040"/>
            <a:chOff x="3286080" y="3286080"/>
            <a:chExt cx="2143080" cy="500040"/>
          </a:xfrm>
        </p:grpSpPr>
        <p:sp>
          <p:nvSpPr>
            <p:cNvPr id="1078" name="AutoShape 32"/>
            <p:cNvSpPr/>
            <p:nvPr/>
          </p:nvSpPr>
          <p:spPr>
            <a:xfrm>
              <a:off x="3292200" y="3286080"/>
              <a:ext cx="2136960" cy="500040"/>
            </a:xfrm>
            <a:prstGeom prst="flowChartTerminator">
              <a:avLst/>
            </a:prstGeom>
            <a:noFill/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Text Box 33"/>
            <p:cNvSpPr/>
            <p:nvPr/>
          </p:nvSpPr>
          <p:spPr>
            <a:xfrm>
              <a:off x="3286080" y="3286080"/>
              <a:ext cx="2033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是军棋的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4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倍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组合 32"/>
          <p:cNvGrpSpPr/>
          <p:nvPr/>
        </p:nvGrpSpPr>
        <p:grpSpPr>
          <a:xfrm>
            <a:off x="1685880" y="3622680"/>
            <a:ext cx="4181400" cy="984960"/>
            <a:chOff x="1685880" y="3622680"/>
            <a:chExt cx="4181400" cy="984960"/>
          </a:xfrm>
        </p:grpSpPr>
        <p:sp>
          <p:nvSpPr>
            <p:cNvPr id="1081" name="Text Box 14"/>
            <p:cNvSpPr/>
            <p:nvPr/>
          </p:nvSpPr>
          <p:spPr>
            <a:xfrm>
              <a:off x="1685880" y="3622680"/>
              <a:ext cx="1152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象棋：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2" name="Group 15"/>
            <p:cNvGrpSpPr/>
            <p:nvPr/>
          </p:nvGrpSpPr>
          <p:grpSpPr>
            <a:xfrm>
              <a:off x="3485880" y="3910320"/>
              <a:ext cx="792000" cy="72720"/>
              <a:chOff x="3485880" y="3910320"/>
              <a:chExt cx="792000" cy="72720"/>
            </a:xfrm>
          </p:grpSpPr>
          <p:grpSp>
            <p:nvGrpSpPr>
              <p:cNvPr id="1083" name=""/>
              <p:cNvGrpSpPr/>
              <p:nvPr/>
            </p:nvGrpSpPr>
            <p:grpSpPr>
              <a:xfrm>
                <a:off x="3485880" y="3982680"/>
                <a:ext cx="791640" cy="360"/>
                <a:chOff x="3485880" y="3982680"/>
                <a:chExt cx="791640" cy="360"/>
              </a:xfrm>
            </p:grpSpPr>
            <p:sp>
              <p:nvSpPr>
                <p:cNvPr id="1084" name="Line 16"/>
                <p:cNvSpPr/>
                <p:nvPr/>
              </p:nvSpPr>
              <p:spPr>
                <a:xfrm>
                  <a:off x="3485880" y="3982680"/>
                  <a:ext cx="791640" cy="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 txBox="1"/>
                <p:nvPr/>
              </p:nvSpPr>
              <p:spPr>
                <a:xfrm>
                  <a:off x="3485880" y="3982680"/>
                  <a:ext cx="79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3485880" y="3910320"/>
                <a:ext cx="360" cy="72360"/>
                <a:chOff x="3485880" y="3910320"/>
                <a:chExt cx="360" cy="72360"/>
              </a:xfrm>
            </p:grpSpPr>
            <p:sp>
              <p:nvSpPr>
                <p:cNvPr id="1087" name="Line 17"/>
                <p:cNvSpPr/>
                <p:nvPr/>
              </p:nvSpPr>
              <p:spPr>
                <a:xfrm>
                  <a:off x="3485880" y="3910320"/>
                  <a:ext cx="360" cy="72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 txBox="1"/>
                <p:nvPr/>
              </p:nvSpPr>
              <p:spPr>
                <a:xfrm>
                  <a:off x="3485880" y="3910320"/>
                  <a:ext cx="360" cy="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4277520" y="3910320"/>
                <a:ext cx="360" cy="72360"/>
                <a:chOff x="4277520" y="3910320"/>
                <a:chExt cx="360" cy="72360"/>
              </a:xfrm>
            </p:grpSpPr>
            <p:sp>
              <p:nvSpPr>
                <p:cNvPr id="1090" name="Line 18"/>
                <p:cNvSpPr/>
                <p:nvPr/>
              </p:nvSpPr>
              <p:spPr>
                <a:xfrm>
                  <a:off x="4277520" y="3910320"/>
                  <a:ext cx="360" cy="72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 txBox="1"/>
                <p:nvPr/>
              </p:nvSpPr>
              <p:spPr>
                <a:xfrm>
                  <a:off x="4277520" y="3910320"/>
                  <a:ext cx="360" cy="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2" name="Group 19"/>
            <p:cNvGrpSpPr/>
            <p:nvPr/>
          </p:nvGrpSpPr>
          <p:grpSpPr>
            <a:xfrm>
              <a:off x="2693880" y="3910320"/>
              <a:ext cx="792000" cy="72720"/>
              <a:chOff x="2693880" y="3910320"/>
              <a:chExt cx="792000" cy="72720"/>
            </a:xfrm>
          </p:grpSpPr>
          <p:grpSp>
            <p:nvGrpSpPr>
              <p:cNvPr id="1093" name=""/>
              <p:cNvGrpSpPr/>
              <p:nvPr/>
            </p:nvGrpSpPr>
            <p:grpSpPr>
              <a:xfrm>
                <a:off x="2693880" y="3982680"/>
                <a:ext cx="791640" cy="360"/>
                <a:chOff x="2693880" y="3982680"/>
                <a:chExt cx="791640" cy="360"/>
              </a:xfrm>
            </p:grpSpPr>
            <p:sp>
              <p:nvSpPr>
                <p:cNvPr id="1094" name="Line 20"/>
                <p:cNvSpPr/>
                <p:nvPr/>
              </p:nvSpPr>
              <p:spPr>
                <a:xfrm>
                  <a:off x="2693880" y="3982680"/>
                  <a:ext cx="791640" cy="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 txBox="1"/>
                <p:nvPr/>
              </p:nvSpPr>
              <p:spPr>
                <a:xfrm>
                  <a:off x="2693880" y="3982680"/>
                  <a:ext cx="79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6" name=""/>
              <p:cNvGrpSpPr/>
              <p:nvPr/>
            </p:nvGrpSpPr>
            <p:grpSpPr>
              <a:xfrm>
                <a:off x="2693880" y="3910320"/>
                <a:ext cx="360" cy="72360"/>
                <a:chOff x="2693880" y="3910320"/>
                <a:chExt cx="360" cy="72360"/>
              </a:xfrm>
            </p:grpSpPr>
            <p:sp>
              <p:nvSpPr>
                <p:cNvPr id="1097" name="Line 21"/>
                <p:cNvSpPr/>
                <p:nvPr/>
              </p:nvSpPr>
              <p:spPr>
                <a:xfrm>
                  <a:off x="2693880" y="3910320"/>
                  <a:ext cx="360" cy="72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 txBox="1"/>
                <p:nvPr/>
              </p:nvSpPr>
              <p:spPr>
                <a:xfrm>
                  <a:off x="2693880" y="3910320"/>
                  <a:ext cx="360" cy="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"/>
              <p:cNvGrpSpPr/>
              <p:nvPr/>
            </p:nvGrpSpPr>
            <p:grpSpPr>
              <a:xfrm>
                <a:off x="3485520" y="3910320"/>
                <a:ext cx="360" cy="72360"/>
                <a:chOff x="3485520" y="3910320"/>
                <a:chExt cx="360" cy="72360"/>
              </a:xfrm>
            </p:grpSpPr>
            <p:sp>
              <p:nvSpPr>
                <p:cNvPr id="1100" name="Line 22"/>
                <p:cNvSpPr/>
                <p:nvPr/>
              </p:nvSpPr>
              <p:spPr>
                <a:xfrm>
                  <a:off x="3485520" y="3910320"/>
                  <a:ext cx="360" cy="72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 txBox="1"/>
                <p:nvPr/>
              </p:nvSpPr>
              <p:spPr>
                <a:xfrm>
                  <a:off x="3485520" y="3910320"/>
                  <a:ext cx="360" cy="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Group 23"/>
            <p:cNvGrpSpPr/>
            <p:nvPr/>
          </p:nvGrpSpPr>
          <p:grpSpPr>
            <a:xfrm>
              <a:off x="4286160" y="3910320"/>
              <a:ext cx="792000" cy="72720"/>
              <a:chOff x="4286160" y="3910320"/>
              <a:chExt cx="792000" cy="72720"/>
            </a:xfrm>
          </p:grpSpPr>
          <p:grpSp>
            <p:nvGrpSpPr>
              <p:cNvPr id="1103" name=""/>
              <p:cNvGrpSpPr/>
              <p:nvPr/>
            </p:nvGrpSpPr>
            <p:grpSpPr>
              <a:xfrm>
                <a:off x="4286160" y="3982680"/>
                <a:ext cx="791640" cy="360"/>
                <a:chOff x="4286160" y="3982680"/>
                <a:chExt cx="791640" cy="360"/>
              </a:xfrm>
            </p:grpSpPr>
            <p:sp>
              <p:nvSpPr>
                <p:cNvPr id="1104" name="Line 24"/>
                <p:cNvSpPr/>
                <p:nvPr/>
              </p:nvSpPr>
              <p:spPr>
                <a:xfrm>
                  <a:off x="4286160" y="3982680"/>
                  <a:ext cx="791640" cy="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 txBox="1"/>
                <p:nvPr/>
              </p:nvSpPr>
              <p:spPr>
                <a:xfrm>
                  <a:off x="4286160" y="3982680"/>
                  <a:ext cx="79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4286160" y="3910320"/>
                <a:ext cx="360" cy="72360"/>
                <a:chOff x="4286160" y="3910320"/>
                <a:chExt cx="360" cy="72360"/>
              </a:xfrm>
            </p:grpSpPr>
            <p:sp>
              <p:nvSpPr>
                <p:cNvPr id="1107" name="Line 25"/>
                <p:cNvSpPr/>
                <p:nvPr/>
              </p:nvSpPr>
              <p:spPr>
                <a:xfrm>
                  <a:off x="4286160" y="3910320"/>
                  <a:ext cx="360" cy="72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 txBox="1"/>
                <p:nvPr/>
              </p:nvSpPr>
              <p:spPr>
                <a:xfrm>
                  <a:off x="4286160" y="3910320"/>
                  <a:ext cx="360" cy="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5077800" y="3910320"/>
                <a:ext cx="360" cy="72360"/>
                <a:chOff x="5077800" y="3910320"/>
                <a:chExt cx="360" cy="72360"/>
              </a:xfrm>
            </p:grpSpPr>
            <p:sp>
              <p:nvSpPr>
                <p:cNvPr id="1110" name="Line 26"/>
                <p:cNvSpPr/>
                <p:nvPr/>
              </p:nvSpPr>
              <p:spPr>
                <a:xfrm>
                  <a:off x="5077800" y="3910320"/>
                  <a:ext cx="360" cy="72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 txBox="1"/>
                <p:nvPr/>
              </p:nvSpPr>
              <p:spPr>
                <a:xfrm>
                  <a:off x="5077800" y="3910320"/>
                  <a:ext cx="360" cy="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2" name="Group 27"/>
            <p:cNvGrpSpPr/>
            <p:nvPr/>
          </p:nvGrpSpPr>
          <p:grpSpPr>
            <a:xfrm>
              <a:off x="5075280" y="3910320"/>
              <a:ext cx="792000" cy="72720"/>
              <a:chOff x="5075280" y="3910320"/>
              <a:chExt cx="792000" cy="72720"/>
            </a:xfrm>
          </p:grpSpPr>
          <p:grpSp>
            <p:nvGrpSpPr>
              <p:cNvPr id="1113" name=""/>
              <p:cNvGrpSpPr/>
              <p:nvPr/>
            </p:nvGrpSpPr>
            <p:grpSpPr>
              <a:xfrm>
                <a:off x="5075280" y="3982680"/>
                <a:ext cx="791640" cy="360"/>
                <a:chOff x="5075280" y="3982680"/>
                <a:chExt cx="791640" cy="360"/>
              </a:xfrm>
            </p:grpSpPr>
            <p:sp>
              <p:nvSpPr>
                <p:cNvPr id="1114" name="Line 28"/>
                <p:cNvSpPr/>
                <p:nvPr/>
              </p:nvSpPr>
              <p:spPr>
                <a:xfrm>
                  <a:off x="5075280" y="3982680"/>
                  <a:ext cx="791640" cy="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 txBox="1"/>
                <p:nvPr/>
              </p:nvSpPr>
              <p:spPr>
                <a:xfrm>
                  <a:off x="5075280" y="3982680"/>
                  <a:ext cx="79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5075280" y="3910320"/>
                <a:ext cx="360" cy="72360"/>
                <a:chOff x="5075280" y="3910320"/>
                <a:chExt cx="360" cy="72360"/>
              </a:xfrm>
            </p:grpSpPr>
            <p:sp>
              <p:nvSpPr>
                <p:cNvPr id="1117" name="Line 29"/>
                <p:cNvSpPr/>
                <p:nvPr/>
              </p:nvSpPr>
              <p:spPr>
                <a:xfrm>
                  <a:off x="5075280" y="3910320"/>
                  <a:ext cx="360" cy="72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 txBox="1"/>
                <p:nvPr/>
              </p:nvSpPr>
              <p:spPr>
                <a:xfrm>
                  <a:off x="5075280" y="3910320"/>
                  <a:ext cx="360" cy="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866920" y="3910320"/>
                <a:ext cx="360" cy="72360"/>
                <a:chOff x="5866920" y="3910320"/>
                <a:chExt cx="360" cy="72360"/>
              </a:xfrm>
            </p:grpSpPr>
            <p:sp>
              <p:nvSpPr>
                <p:cNvPr id="1120" name="Line 30"/>
                <p:cNvSpPr/>
                <p:nvPr/>
              </p:nvSpPr>
              <p:spPr>
                <a:xfrm>
                  <a:off x="5866920" y="3910320"/>
                  <a:ext cx="360" cy="7236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 txBox="1"/>
                <p:nvPr/>
              </p:nvSpPr>
              <p:spPr>
                <a:xfrm>
                  <a:off x="5866920" y="3910320"/>
                  <a:ext cx="360" cy="7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AutoShape 31"/>
            <p:cNvSpPr/>
            <p:nvPr/>
          </p:nvSpPr>
          <p:spPr>
            <a:xfrm rot="16200000">
              <a:off x="4206600" y="2541240"/>
              <a:ext cx="144360" cy="31701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82080 h 3170160"/>
                <a:gd name="textAreaBottom" fmla="*/ 3088080 h 317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5"/>
                    <a:pt x="10800" y="1789"/>
                  </a:cubicBezTo>
                  <a:lnTo>
                    <a:pt x="10800" y="9011"/>
                  </a:lnTo>
                  <a:cubicBezTo>
                    <a:pt x="10800" y="9906"/>
                    <a:pt x="5400" y="10800"/>
                    <a:pt x="0" y="10800"/>
                  </a:cubicBezTo>
                  <a:cubicBezTo>
                    <a:pt x="5400" y="10800"/>
                    <a:pt x="10800" y="11695"/>
                    <a:pt x="10800" y="12589"/>
                  </a:cubicBezTo>
                  <a:lnTo>
                    <a:pt x="10800" y="19811"/>
                  </a:lnTo>
                  <a:cubicBezTo>
                    <a:pt x="10800" y="20706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Text Box 34"/>
            <p:cNvSpPr/>
            <p:nvPr/>
          </p:nvSpPr>
          <p:spPr>
            <a:xfrm>
              <a:off x="3786120" y="4132800"/>
              <a:ext cx="1008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?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元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组合 7"/>
          <p:cNvGrpSpPr/>
          <p:nvPr/>
        </p:nvGrpSpPr>
        <p:grpSpPr>
          <a:xfrm>
            <a:off x="2714760" y="1428840"/>
            <a:ext cx="4178160" cy="971640"/>
            <a:chOff x="2714760" y="1428840"/>
            <a:chExt cx="4178160" cy="971640"/>
          </a:xfrm>
        </p:grpSpPr>
        <p:sp>
          <p:nvSpPr>
            <p:cNvPr id="1125" name="AutoShape 27"/>
            <p:cNvSpPr/>
            <p:nvPr/>
          </p:nvSpPr>
          <p:spPr>
            <a:xfrm>
              <a:off x="2714760" y="1500120"/>
              <a:ext cx="3071160" cy="713880"/>
            </a:xfrm>
            <a:prstGeom prst="wedgeRoundRectCallout">
              <a:avLst>
                <a:gd name="adj1" fmla="val 61050"/>
                <a:gd name="adj2" fmla="val 168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可以画图帮助理解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6" name="Picture 2" descr="C:\Documents and Settings\Administrator\桌面\人\跳舞小女孩.tif跳舞小女孩"/>
            <p:cNvPicPr/>
            <p:nvPr/>
          </p:nvPicPr>
          <p:blipFill>
            <a:blip r:embed="rId8"/>
            <a:stretch/>
          </p:blipFill>
          <p:spPr>
            <a:xfrm>
              <a:off x="6207120" y="1428840"/>
              <a:ext cx="68580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7" name="TextBox 40"/>
          <p:cNvSpPr/>
          <p:nvPr/>
        </p:nvSpPr>
        <p:spPr>
          <a:xfrm>
            <a:off x="441360" y="4714920"/>
            <a:ext cx="8059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想：要求象棋的价钱，就是求（   ）个（   ）是多少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38"/>
          <p:cNvSpPr/>
          <p:nvPr/>
        </p:nvSpPr>
        <p:spPr>
          <a:xfrm>
            <a:off x="3143160" y="5381640"/>
            <a:ext cx="235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8×4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32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元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42"/>
          <p:cNvSpPr/>
          <p:nvPr/>
        </p:nvSpPr>
        <p:spPr>
          <a:xfrm>
            <a:off x="5000760" y="4857840"/>
            <a:ext cx="500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43"/>
          <p:cNvSpPr/>
          <p:nvPr/>
        </p:nvSpPr>
        <p:spPr>
          <a:xfrm>
            <a:off x="6429240" y="4857840"/>
            <a:ext cx="500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3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34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5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6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42" name="Picture 6" descr="D:\我的文档-桌面-收藏夹\桌面\1.jpg"/>
          <p:cNvPicPr/>
          <p:nvPr/>
        </p:nvPicPr>
        <p:blipFill>
          <a:blip r:embed="rId8"/>
          <a:stretch/>
        </p:blipFill>
        <p:spPr>
          <a:xfrm>
            <a:off x="1282680" y="1017720"/>
            <a:ext cx="3422520" cy="2482560"/>
          </a:xfrm>
          <a:prstGeom prst="rect">
            <a:avLst/>
          </a:prstGeom>
          <a:ln w="0">
            <a:noFill/>
          </a:ln>
        </p:spPr>
      </p:pic>
      <p:sp>
        <p:nvSpPr>
          <p:cNvPr id="1143" name="AutoShape 27"/>
          <p:cNvSpPr/>
          <p:nvPr/>
        </p:nvSpPr>
        <p:spPr>
          <a:xfrm>
            <a:off x="4002120" y="874800"/>
            <a:ext cx="3571920" cy="1071360"/>
          </a:xfrm>
          <a:prstGeom prst="wedgeRoundRectCallout">
            <a:avLst>
              <a:gd name="adj1" fmla="val -56972"/>
              <a:gd name="adj2" fmla="val 3964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军棋的价钱是</a:t>
            </a: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8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元，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棋的价钱是军棋的</a:t>
            </a: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倍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4073400" y="2143080"/>
            <a:ext cx="3571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象棋的价钱是多少元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八边形 3"/>
          <p:cNvSpPr/>
          <p:nvPr/>
        </p:nvSpPr>
        <p:spPr>
          <a:xfrm>
            <a:off x="324000" y="1004760"/>
            <a:ext cx="51408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Box 3"/>
          <p:cNvSpPr/>
          <p:nvPr/>
        </p:nvSpPr>
        <p:spPr>
          <a:xfrm>
            <a:off x="365040" y="3600360"/>
            <a:ext cx="349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4f81bd"/>
                </a:solidFill>
                <a:latin typeface="宋体"/>
                <a:ea typeface="宋体"/>
              </a:rPr>
              <a:t>回顾与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8"/>
          <p:cNvSpPr/>
          <p:nvPr/>
        </p:nvSpPr>
        <p:spPr>
          <a:xfrm>
            <a:off x="1724040" y="5640480"/>
            <a:ext cx="47307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答：象棋的价钱是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元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组合 10"/>
          <p:cNvGrpSpPr/>
          <p:nvPr/>
        </p:nvGrpSpPr>
        <p:grpSpPr>
          <a:xfrm>
            <a:off x="284040" y="4300560"/>
            <a:ext cx="3718080" cy="1339920"/>
            <a:chOff x="284040" y="4300560"/>
            <a:chExt cx="3718080" cy="1339920"/>
          </a:xfrm>
        </p:grpSpPr>
        <p:sp>
          <p:nvSpPr>
            <p:cNvPr id="1149" name="AutoShape 27"/>
            <p:cNvSpPr/>
            <p:nvPr/>
          </p:nvSpPr>
          <p:spPr>
            <a:xfrm>
              <a:off x="1573920" y="4480560"/>
              <a:ext cx="2428200" cy="576360"/>
            </a:xfrm>
            <a:prstGeom prst="wedgeRoundRectCallout">
              <a:avLst>
                <a:gd name="adj1" fmla="val -59083"/>
                <a:gd name="adj2" fmla="val -481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我们解答得对吗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0" name="图片 36" descr="_4`F[E$PX4I}_~SSZVJ7V4J"/>
            <p:cNvPicPr/>
            <p:nvPr/>
          </p:nvPicPr>
          <p:blipFill>
            <a:blip r:embed="rId9"/>
            <a:stretch/>
          </p:blipFill>
          <p:spPr>
            <a:xfrm flipH="1">
              <a:off x="284040" y="4300560"/>
              <a:ext cx="883440" cy="133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1" name="组合 7"/>
          <p:cNvGrpSpPr/>
          <p:nvPr/>
        </p:nvGrpSpPr>
        <p:grpSpPr>
          <a:xfrm>
            <a:off x="4384800" y="3441600"/>
            <a:ext cx="3813120" cy="989280"/>
            <a:chOff x="4384800" y="3441600"/>
            <a:chExt cx="3813120" cy="989280"/>
          </a:xfrm>
        </p:grpSpPr>
        <p:sp>
          <p:nvSpPr>
            <p:cNvPr id="1152" name="AutoShape 27"/>
            <p:cNvSpPr/>
            <p:nvPr/>
          </p:nvSpPr>
          <p:spPr>
            <a:xfrm>
              <a:off x="4384800" y="3628440"/>
              <a:ext cx="2807280" cy="496440"/>
            </a:xfrm>
            <a:prstGeom prst="wedgeRoundRectCallout">
              <a:avLst>
                <a:gd name="adj1" fmla="val 54726"/>
                <a:gd name="adj2" fmla="val -58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元是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元的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倍吗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3" name="图片 35" descr="]@P`{@U$K{A7A$9804YYMFT"/>
            <p:cNvPicPr/>
            <p:nvPr/>
          </p:nvPicPr>
          <p:blipFill>
            <a:blip r:embed="rId10"/>
            <a:stretch/>
          </p:blipFill>
          <p:spPr>
            <a:xfrm flipH="1">
              <a:off x="7421760" y="3441600"/>
              <a:ext cx="776160" cy="98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4" name="组合 9"/>
          <p:cNvGrpSpPr/>
          <p:nvPr/>
        </p:nvGrpSpPr>
        <p:grpSpPr>
          <a:xfrm>
            <a:off x="4258800" y="4430880"/>
            <a:ext cx="4272120" cy="1339560"/>
            <a:chOff x="4258800" y="4430880"/>
            <a:chExt cx="4272120" cy="1339560"/>
          </a:xfrm>
        </p:grpSpPr>
        <p:sp>
          <p:nvSpPr>
            <p:cNvPr id="1155" name="AutoShape 27"/>
            <p:cNvSpPr/>
            <p:nvPr/>
          </p:nvSpPr>
          <p:spPr>
            <a:xfrm flipH="1">
              <a:off x="4258440" y="4958640"/>
              <a:ext cx="3059640" cy="576000"/>
            </a:xfrm>
            <a:prstGeom prst="wedgeRoundRectCallout">
              <a:avLst>
                <a:gd name="adj1" fmla="val -58041"/>
                <a:gd name="adj2" fmla="val 344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32÷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＝</a:t>
              </a: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解答正确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6" name="图片 8" descr="_4`F[E$PX4I}_~SSZVJ7V4J"/>
            <p:cNvPicPr/>
            <p:nvPr/>
          </p:nvPicPr>
          <p:blipFill>
            <a:blip r:embed="rId11"/>
            <a:stretch/>
          </p:blipFill>
          <p:spPr>
            <a:xfrm>
              <a:off x="7647120" y="4430880"/>
              <a:ext cx="883800" cy="1339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7" name="组合 2"/>
          <p:cNvGrpSpPr/>
          <p:nvPr/>
        </p:nvGrpSpPr>
        <p:grpSpPr>
          <a:xfrm>
            <a:off x="11160" y="85680"/>
            <a:ext cx="2751120" cy="525600"/>
            <a:chOff x="11160" y="85680"/>
            <a:chExt cx="2751120" cy="525600"/>
          </a:xfrm>
        </p:grpSpPr>
        <p:pic>
          <p:nvPicPr>
            <p:cNvPr id="115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34280" y="85680"/>
              <a:ext cx="26280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9" name="组合 4"/>
            <p:cNvGrpSpPr/>
            <p:nvPr/>
          </p:nvGrpSpPr>
          <p:grpSpPr>
            <a:xfrm>
              <a:off x="11160" y="181440"/>
              <a:ext cx="362880" cy="272160"/>
              <a:chOff x="11160" y="181440"/>
              <a:chExt cx="362880" cy="272160"/>
            </a:xfrm>
          </p:grpSpPr>
          <p:sp>
            <p:nvSpPr>
              <p:cNvPr id="1160" name="椭圆 1"/>
              <p:cNvSpPr/>
              <p:nvPr/>
            </p:nvSpPr>
            <p:spPr>
              <a:xfrm rot="16200000">
                <a:off x="240120" y="345240"/>
                <a:ext cx="9396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1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73880" y="323640"/>
                <a:ext cx="20016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2" name="椭圆 29"/>
              <p:cNvSpPr/>
              <p:nvPr/>
            </p:nvSpPr>
            <p:spPr>
              <a:xfrm rot="16200000">
                <a:off x="240120" y="225000"/>
                <a:ext cx="9396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73880" y="197640"/>
                <a:ext cx="20016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342000"/>
                <a:ext cx="29232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310320"/>
                <a:ext cx="29232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760"/>
                <a:ext cx="29232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181440"/>
                <a:ext cx="292320" cy="11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8" name="圆角矩形 5"/>
          <p:cNvSpPr/>
          <p:nvPr/>
        </p:nvSpPr>
        <p:spPr>
          <a:xfrm>
            <a:off x="428760" y="-9360"/>
            <a:ext cx="2071440" cy="71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4"/>
          <p:cNvSpPr/>
          <p:nvPr/>
        </p:nvSpPr>
        <p:spPr>
          <a:xfrm>
            <a:off x="477720" y="1041480"/>
            <a:ext cx="416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先画一画，再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文本框 6"/>
          <p:cNvSpPr/>
          <p:nvPr/>
        </p:nvSpPr>
        <p:spPr>
          <a:xfrm>
            <a:off x="663480" y="1555920"/>
            <a:ext cx="14590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等腰三角形 8"/>
          <p:cNvSpPr/>
          <p:nvPr/>
        </p:nvSpPr>
        <p:spPr>
          <a:xfrm>
            <a:off x="2017800" y="1801800"/>
            <a:ext cx="287280" cy="287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文本框 9"/>
          <p:cNvSpPr/>
          <p:nvPr/>
        </p:nvSpPr>
        <p:spPr>
          <a:xfrm>
            <a:off x="2400480" y="1606680"/>
            <a:ext cx="3222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文本框 10"/>
          <p:cNvSpPr/>
          <p:nvPr/>
        </p:nvSpPr>
        <p:spPr>
          <a:xfrm>
            <a:off x="2722680" y="1606680"/>
            <a:ext cx="6015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等腰三角形 11"/>
          <p:cNvSpPr/>
          <p:nvPr/>
        </p:nvSpPr>
        <p:spPr>
          <a:xfrm>
            <a:off x="3227400" y="1801800"/>
            <a:ext cx="287280" cy="287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文本框 12"/>
          <p:cNvSpPr/>
          <p:nvPr/>
        </p:nvSpPr>
        <p:spPr>
          <a:xfrm>
            <a:off x="3632040" y="1719360"/>
            <a:ext cx="1710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个数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13"/>
          <p:cNvSpPr/>
          <p:nvPr/>
        </p:nvSpPr>
        <p:spPr>
          <a:xfrm>
            <a:off x="5054760" y="1816200"/>
            <a:ext cx="287280" cy="28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文本框 14"/>
          <p:cNvSpPr/>
          <p:nvPr/>
        </p:nvSpPr>
        <p:spPr>
          <a:xfrm>
            <a:off x="5541840" y="1755720"/>
            <a:ext cx="14367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文本框 15"/>
          <p:cNvSpPr/>
          <p:nvPr/>
        </p:nvSpPr>
        <p:spPr>
          <a:xfrm>
            <a:off x="663480" y="3670200"/>
            <a:ext cx="1355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椭圆 16"/>
          <p:cNvSpPr/>
          <p:nvPr/>
        </p:nvSpPr>
        <p:spPr>
          <a:xfrm>
            <a:off x="1981080" y="3801960"/>
            <a:ext cx="360360" cy="36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文本框 17"/>
          <p:cNvSpPr/>
          <p:nvPr/>
        </p:nvSpPr>
        <p:spPr>
          <a:xfrm>
            <a:off x="2440080" y="3740040"/>
            <a:ext cx="322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文本框 18"/>
          <p:cNvSpPr/>
          <p:nvPr/>
        </p:nvSpPr>
        <p:spPr>
          <a:xfrm>
            <a:off x="2722680" y="3695760"/>
            <a:ext cx="601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椭圆 19"/>
          <p:cNvSpPr/>
          <p:nvPr/>
        </p:nvSpPr>
        <p:spPr>
          <a:xfrm>
            <a:off x="3227400" y="3836880"/>
            <a:ext cx="360360" cy="36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文本框 20"/>
          <p:cNvSpPr/>
          <p:nvPr/>
        </p:nvSpPr>
        <p:spPr>
          <a:xfrm>
            <a:off x="3632040" y="3849840"/>
            <a:ext cx="1710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个数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4" name="图片 21" descr="3AL52{)XVGVA9EFELBMHEVU"/>
          <p:cNvPicPr/>
          <p:nvPr/>
        </p:nvPicPr>
        <p:blipFill>
          <a:blip r:embed="rId8"/>
          <a:stretch/>
        </p:blipFill>
        <p:spPr>
          <a:xfrm>
            <a:off x="4995720" y="3765600"/>
            <a:ext cx="547920" cy="514440"/>
          </a:xfrm>
          <a:prstGeom prst="rect">
            <a:avLst/>
          </a:prstGeom>
          <a:ln w="0">
            <a:noFill/>
          </a:ln>
        </p:spPr>
      </p:pic>
      <p:sp>
        <p:nvSpPr>
          <p:cNvPr id="1185" name="文本框 22"/>
          <p:cNvSpPr/>
          <p:nvPr/>
        </p:nvSpPr>
        <p:spPr>
          <a:xfrm>
            <a:off x="5511960" y="3740040"/>
            <a:ext cx="1436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矩形 23"/>
          <p:cNvSpPr/>
          <p:nvPr/>
        </p:nvSpPr>
        <p:spPr>
          <a:xfrm>
            <a:off x="1563840" y="2306520"/>
            <a:ext cx="287280" cy="28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矩形 24"/>
          <p:cNvSpPr/>
          <p:nvPr/>
        </p:nvSpPr>
        <p:spPr>
          <a:xfrm>
            <a:off x="2112840" y="2306520"/>
            <a:ext cx="287640" cy="28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矩形 25"/>
          <p:cNvSpPr/>
          <p:nvPr/>
        </p:nvSpPr>
        <p:spPr>
          <a:xfrm>
            <a:off x="2762280" y="2306520"/>
            <a:ext cx="287280" cy="28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矩形 26"/>
          <p:cNvSpPr/>
          <p:nvPr/>
        </p:nvSpPr>
        <p:spPr>
          <a:xfrm>
            <a:off x="3344760" y="2306520"/>
            <a:ext cx="287280" cy="28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文本框 27"/>
          <p:cNvSpPr/>
          <p:nvPr/>
        </p:nvSpPr>
        <p:spPr>
          <a:xfrm>
            <a:off x="1143000" y="3156120"/>
            <a:ext cx="4329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1" name="图片 36" descr="3AL52{)XVGVA9EFELBMHEVU"/>
          <p:cNvPicPr/>
          <p:nvPr/>
        </p:nvPicPr>
        <p:blipFill>
          <a:blip r:embed="rId9"/>
          <a:stretch/>
        </p:blipFill>
        <p:spPr>
          <a:xfrm>
            <a:off x="1433520" y="4460760"/>
            <a:ext cx="547560" cy="514440"/>
          </a:xfrm>
          <a:prstGeom prst="rect">
            <a:avLst/>
          </a:prstGeom>
          <a:ln w="0">
            <a:noFill/>
          </a:ln>
        </p:spPr>
      </p:pic>
      <p:pic>
        <p:nvPicPr>
          <p:cNvPr id="1192" name="图片 37" descr="3AL52{)XVGVA9EFELBMHEVU"/>
          <p:cNvPicPr/>
          <p:nvPr/>
        </p:nvPicPr>
        <p:blipFill>
          <a:blip r:embed="rId10"/>
          <a:stretch/>
        </p:blipFill>
        <p:spPr>
          <a:xfrm>
            <a:off x="2103480" y="4460760"/>
            <a:ext cx="547560" cy="514440"/>
          </a:xfrm>
          <a:prstGeom prst="rect">
            <a:avLst/>
          </a:prstGeom>
          <a:ln w="0">
            <a:noFill/>
          </a:ln>
        </p:spPr>
      </p:pic>
      <p:pic>
        <p:nvPicPr>
          <p:cNvPr id="1193" name="图片 38" descr="3AL52{)XVGVA9EFELBMHEVU"/>
          <p:cNvPicPr/>
          <p:nvPr/>
        </p:nvPicPr>
        <p:blipFill>
          <a:blip r:embed="rId11"/>
          <a:stretch/>
        </p:blipFill>
        <p:spPr>
          <a:xfrm>
            <a:off x="2795760" y="4460760"/>
            <a:ext cx="549000" cy="514440"/>
          </a:xfrm>
          <a:prstGeom prst="rect">
            <a:avLst/>
          </a:prstGeom>
          <a:ln w="0">
            <a:noFill/>
          </a:ln>
        </p:spPr>
      </p:pic>
      <p:sp>
        <p:nvSpPr>
          <p:cNvPr id="1194" name="矩形 39"/>
          <p:cNvSpPr/>
          <p:nvPr/>
        </p:nvSpPr>
        <p:spPr>
          <a:xfrm>
            <a:off x="1442880" y="3235320"/>
            <a:ext cx="576360" cy="504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矩形 40"/>
          <p:cNvSpPr/>
          <p:nvPr/>
        </p:nvSpPr>
        <p:spPr>
          <a:xfrm>
            <a:off x="2795760" y="3235320"/>
            <a:ext cx="576000" cy="504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矩形 41"/>
          <p:cNvSpPr/>
          <p:nvPr/>
        </p:nvSpPr>
        <p:spPr>
          <a:xfrm>
            <a:off x="4070520" y="3235320"/>
            <a:ext cx="576000" cy="504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42"/>
          <p:cNvSpPr/>
          <p:nvPr/>
        </p:nvSpPr>
        <p:spPr>
          <a:xfrm>
            <a:off x="1442880" y="5756400"/>
            <a:ext cx="576360" cy="50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矩形 43"/>
          <p:cNvSpPr/>
          <p:nvPr/>
        </p:nvSpPr>
        <p:spPr>
          <a:xfrm>
            <a:off x="2795760" y="5756400"/>
            <a:ext cx="576000" cy="50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矩形 44"/>
          <p:cNvSpPr/>
          <p:nvPr/>
        </p:nvSpPr>
        <p:spPr>
          <a:xfrm>
            <a:off x="4070520" y="5756400"/>
            <a:ext cx="576000" cy="50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椭圆 45"/>
          <p:cNvSpPr/>
          <p:nvPr/>
        </p:nvSpPr>
        <p:spPr>
          <a:xfrm>
            <a:off x="2146320" y="5683320"/>
            <a:ext cx="576360" cy="576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椭圆 46"/>
          <p:cNvSpPr/>
          <p:nvPr/>
        </p:nvSpPr>
        <p:spPr>
          <a:xfrm>
            <a:off x="2122560" y="3191040"/>
            <a:ext cx="576360" cy="574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文本框 47"/>
          <p:cNvSpPr/>
          <p:nvPr/>
        </p:nvSpPr>
        <p:spPr>
          <a:xfrm>
            <a:off x="3514680" y="5775480"/>
            <a:ext cx="457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文本框 48"/>
          <p:cNvSpPr/>
          <p:nvPr/>
        </p:nvSpPr>
        <p:spPr>
          <a:xfrm>
            <a:off x="3514680" y="3232080"/>
            <a:ext cx="457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组合 3"/>
          <p:cNvGrpSpPr/>
          <p:nvPr/>
        </p:nvGrpSpPr>
        <p:grpSpPr>
          <a:xfrm>
            <a:off x="1012680" y="2763720"/>
            <a:ext cx="5935680" cy="392400"/>
            <a:chOff x="1012680" y="2763720"/>
            <a:chExt cx="5935680" cy="392400"/>
          </a:xfrm>
        </p:grpSpPr>
        <p:sp>
          <p:nvSpPr>
            <p:cNvPr id="1205" name="直接连接符 28"/>
            <p:cNvSpPr/>
            <p:nvPr/>
          </p:nvSpPr>
          <p:spPr>
            <a:xfrm flipV="1">
              <a:off x="1012680" y="3140280"/>
              <a:ext cx="5935680" cy="15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等腰三角形 49"/>
            <p:cNvSpPr/>
            <p:nvPr/>
          </p:nvSpPr>
          <p:spPr>
            <a:xfrm>
              <a:off x="1320480" y="2763720"/>
              <a:ext cx="286920" cy="286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等腰三角形 50"/>
            <p:cNvSpPr/>
            <p:nvPr/>
          </p:nvSpPr>
          <p:spPr>
            <a:xfrm>
              <a:off x="1730160" y="2763720"/>
              <a:ext cx="288720" cy="286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等腰三角形 51"/>
            <p:cNvSpPr/>
            <p:nvPr/>
          </p:nvSpPr>
          <p:spPr>
            <a:xfrm>
              <a:off x="2121840" y="2763720"/>
              <a:ext cx="286920" cy="286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等腰三角形 52"/>
            <p:cNvSpPr/>
            <p:nvPr/>
          </p:nvSpPr>
          <p:spPr>
            <a:xfrm>
              <a:off x="2499840" y="2763720"/>
              <a:ext cx="286920" cy="286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等腰三角形 53"/>
            <p:cNvSpPr/>
            <p:nvPr/>
          </p:nvSpPr>
          <p:spPr>
            <a:xfrm>
              <a:off x="3163320" y="2763720"/>
              <a:ext cx="286920" cy="286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等腰三角形 54"/>
            <p:cNvSpPr/>
            <p:nvPr/>
          </p:nvSpPr>
          <p:spPr>
            <a:xfrm>
              <a:off x="3550680" y="2763720"/>
              <a:ext cx="286920" cy="286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等腰三角形 55"/>
            <p:cNvSpPr/>
            <p:nvPr/>
          </p:nvSpPr>
          <p:spPr>
            <a:xfrm>
              <a:off x="3971880" y="2763720"/>
              <a:ext cx="286920" cy="286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等腰三角形 56"/>
            <p:cNvSpPr/>
            <p:nvPr/>
          </p:nvSpPr>
          <p:spPr>
            <a:xfrm>
              <a:off x="4343400" y="2763720"/>
              <a:ext cx="286920" cy="286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等腰三角形 57"/>
            <p:cNvSpPr/>
            <p:nvPr/>
          </p:nvSpPr>
          <p:spPr>
            <a:xfrm>
              <a:off x="5184720" y="2763720"/>
              <a:ext cx="286920" cy="286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等腰三角形 58"/>
            <p:cNvSpPr/>
            <p:nvPr/>
          </p:nvSpPr>
          <p:spPr>
            <a:xfrm>
              <a:off x="5614920" y="2763720"/>
              <a:ext cx="286920" cy="286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等腰三角形 59"/>
            <p:cNvSpPr/>
            <p:nvPr/>
          </p:nvSpPr>
          <p:spPr>
            <a:xfrm>
              <a:off x="5985000" y="2763720"/>
              <a:ext cx="286920" cy="286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等腰三角形 60"/>
            <p:cNvSpPr/>
            <p:nvPr/>
          </p:nvSpPr>
          <p:spPr>
            <a:xfrm>
              <a:off x="6367320" y="2763720"/>
              <a:ext cx="286920" cy="286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文本框 76"/>
          <p:cNvSpPr/>
          <p:nvPr/>
        </p:nvSpPr>
        <p:spPr>
          <a:xfrm>
            <a:off x="260280" y="5516640"/>
            <a:ext cx="7264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9" name="组合 4"/>
          <p:cNvGrpSpPr/>
          <p:nvPr/>
        </p:nvGrpSpPr>
        <p:grpSpPr>
          <a:xfrm>
            <a:off x="1111320" y="5108400"/>
            <a:ext cx="7264440" cy="490680"/>
            <a:chOff x="1111320" y="5108400"/>
            <a:chExt cx="7264440" cy="490680"/>
          </a:xfrm>
        </p:grpSpPr>
        <p:sp>
          <p:nvSpPr>
            <p:cNvPr id="1220" name="椭圆 61"/>
            <p:cNvSpPr/>
            <p:nvPr/>
          </p:nvSpPr>
          <p:spPr>
            <a:xfrm>
              <a:off x="1320840" y="5108400"/>
              <a:ext cx="36000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椭圆 62"/>
            <p:cNvSpPr/>
            <p:nvPr/>
          </p:nvSpPr>
          <p:spPr>
            <a:xfrm>
              <a:off x="1730160" y="5108400"/>
              <a:ext cx="36000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椭圆 63"/>
            <p:cNvSpPr/>
            <p:nvPr/>
          </p:nvSpPr>
          <p:spPr>
            <a:xfrm>
              <a:off x="2146320" y="5108400"/>
              <a:ext cx="36000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椭圆 64"/>
            <p:cNvSpPr/>
            <p:nvPr/>
          </p:nvSpPr>
          <p:spPr>
            <a:xfrm>
              <a:off x="2762280" y="5108400"/>
              <a:ext cx="3585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椭圆 65"/>
            <p:cNvSpPr/>
            <p:nvPr/>
          </p:nvSpPr>
          <p:spPr>
            <a:xfrm>
              <a:off x="3163680" y="5108400"/>
              <a:ext cx="36000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椭圆 66"/>
            <p:cNvSpPr/>
            <p:nvPr/>
          </p:nvSpPr>
          <p:spPr>
            <a:xfrm>
              <a:off x="3587760" y="5108400"/>
              <a:ext cx="36000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椭圆 67"/>
            <p:cNvSpPr/>
            <p:nvPr/>
          </p:nvSpPr>
          <p:spPr>
            <a:xfrm>
              <a:off x="4178160" y="5108400"/>
              <a:ext cx="36000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椭圆 68"/>
            <p:cNvSpPr/>
            <p:nvPr/>
          </p:nvSpPr>
          <p:spPr>
            <a:xfrm>
              <a:off x="4563720" y="5108400"/>
              <a:ext cx="36000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椭圆 69"/>
            <p:cNvSpPr/>
            <p:nvPr/>
          </p:nvSpPr>
          <p:spPr>
            <a:xfrm>
              <a:off x="4981680" y="5108400"/>
              <a:ext cx="36000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椭圆 70"/>
            <p:cNvSpPr/>
            <p:nvPr/>
          </p:nvSpPr>
          <p:spPr>
            <a:xfrm>
              <a:off x="5578560" y="5108400"/>
              <a:ext cx="36000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椭圆 71"/>
            <p:cNvSpPr/>
            <p:nvPr/>
          </p:nvSpPr>
          <p:spPr>
            <a:xfrm>
              <a:off x="5985000" y="5108400"/>
              <a:ext cx="36000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椭圆 72"/>
            <p:cNvSpPr/>
            <p:nvPr/>
          </p:nvSpPr>
          <p:spPr>
            <a:xfrm>
              <a:off x="6367320" y="5108400"/>
              <a:ext cx="36000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椭圆 73"/>
            <p:cNvSpPr/>
            <p:nvPr/>
          </p:nvSpPr>
          <p:spPr>
            <a:xfrm>
              <a:off x="7096320" y="5108400"/>
              <a:ext cx="3585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椭圆 74"/>
            <p:cNvSpPr/>
            <p:nvPr/>
          </p:nvSpPr>
          <p:spPr>
            <a:xfrm>
              <a:off x="7537680" y="5108400"/>
              <a:ext cx="36000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椭圆 75"/>
            <p:cNvSpPr/>
            <p:nvPr/>
          </p:nvSpPr>
          <p:spPr>
            <a:xfrm>
              <a:off x="7944120" y="5108400"/>
              <a:ext cx="358560" cy="360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直接连接符 77"/>
            <p:cNvSpPr/>
            <p:nvPr/>
          </p:nvSpPr>
          <p:spPr>
            <a:xfrm>
              <a:off x="1111320" y="5599080"/>
              <a:ext cx="7264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文本框 78"/>
          <p:cNvSpPr/>
          <p:nvPr/>
        </p:nvSpPr>
        <p:spPr>
          <a:xfrm>
            <a:off x="1447920" y="3198960"/>
            <a:ext cx="569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文本框 80"/>
          <p:cNvSpPr/>
          <p:nvPr/>
        </p:nvSpPr>
        <p:spPr>
          <a:xfrm>
            <a:off x="2787480" y="3156120"/>
            <a:ext cx="571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文本框 81"/>
          <p:cNvSpPr/>
          <p:nvPr/>
        </p:nvSpPr>
        <p:spPr>
          <a:xfrm>
            <a:off x="2151000" y="3198960"/>
            <a:ext cx="519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文本框 82"/>
          <p:cNvSpPr/>
          <p:nvPr/>
        </p:nvSpPr>
        <p:spPr>
          <a:xfrm>
            <a:off x="3971880" y="3174840"/>
            <a:ext cx="8683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文本框 83"/>
          <p:cNvSpPr/>
          <p:nvPr/>
        </p:nvSpPr>
        <p:spPr>
          <a:xfrm>
            <a:off x="1469880" y="5683320"/>
            <a:ext cx="5716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文本框 84"/>
          <p:cNvSpPr/>
          <p:nvPr/>
        </p:nvSpPr>
        <p:spPr>
          <a:xfrm>
            <a:off x="2881440" y="5683320"/>
            <a:ext cx="569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文本框 85"/>
          <p:cNvSpPr/>
          <p:nvPr/>
        </p:nvSpPr>
        <p:spPr>
          <a:xfrm>
            <a:off x="2174760" y="5683320"/>
            <a:ext cx="517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文本框 86"/>
          <p:cNvSpPr/>
          <p:nvPr/>
        </p:nvSpPr>
        <p:spPr>
          <a:xfrm>
            <a:off x="4052880" y="5719680"/>
            <a:ext cx="868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组合 2"/>
          <p:cNvGrpSpPr/>
          <p:nvPr/>
        </p:nvGrpSpPr>
        <p:grpSpPr>
          <a:xfrm>
            <a:off x="11160" y="85680"/>
            <a:ext cx="2751120" cy="525600"/>
            <a:chOff x="11160" y="85680"/>
            <a:chExt cx="2751120" cy="525600"/>
          </a:xfrm>
        </p:grpSpPr>
        <p:pic>
          <p:nvPicPr>
            <p:cNvPr id="124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34280" y="85680"/>
              <a:ext cx="26280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6" name="组合 4"/>
            <p:cNvGrpSpPr/>
            <p:nvPr/>
          </p:nvGrpSpPr>
          <p:grpSpPr>
            <a:xfrm>
              <a:off x="11160" y="181440"/>
              <a:ext cx="362880" cy="272160"/>
              <a:chOff x="11160" y="181440"/>
              <a:chExt cx="362880" cy="272160"/>
            </a:xfrm>
          </p:grpSpPr>
          <p:sp>
            <p:nvSpPr>
              <p:cNvPr id="1247" name="椭圆 1"/>
              <p:cNvSpPr/>
              <p:nvPr/>
            </p:nvSpPr>
            <p:spPr>
              <a:xfrm rot="16200000">
                <a:off x="240120" y="345240"/>
                <a:ext cx="9396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8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73880" y="323640"/>
                <a:ext cx="20016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椭圆 29"/>
              <p:cNvSpPr/>
              <p:nvPr/>
            </p:nvSpPr>
            <p:spPr>
              <a:xfrm rot="16200000">
                <a:off x="240120" y="225000"/>
                <a:ext cx="9396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73880" y="197640"/>
                <a:ext cx="20016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342000"/>
                <a:ext cx="29232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310320"/>
                <a:ext cx="29232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760"/>
                <a:ext cx="29232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181440"/>
                <a:ext cx="292320" cy="11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55" name="圆角矩形 5"/>
          <p:cNvSpPr/>
          <p:nvPr/>
        </p:nvSpPr>
        <p:spPr>
          <a:xfrm>
            <a:off x="428760" y="-9360"/>
            <a:ext cx="2071440" cy="71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文本框 3"/>
          <p:cNvSpPr/>
          <p:nvPr/>
        </p:nvSpPr>
        <p:spPr>
          <a:xfrm>
            <a:off x="590400" y="520560"/>
            <a:ext cx="35388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丽跳了多少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组合 16"/>
          <p:cNvGrpSpPr/>
          <p:nvPr/>
        </p:nvGrpSpPr>
        <p:grpSpPr>
          <a:xfrm>
            <a:off x="428400" y="1415880"/>
            <a:ext cx="7888680" cy="2054520"/>
            <a:chOff x="428400" y="1415880"/>
            <a:chExt cx="7888680" cy="2054520"/>
          </a:xfrm>
        </p:grpSpPr>
        <p:pic>
          <p:nvPicPr>
            <p:cNvPr id="1258" name="图片 6" descr="KLJQR_N[BV8M~9I$$53V981"/>
            <p:cNvPicPr/>
            <p:nvPr/>
          </p:nvPicPr>
          <p:blipFill>
            <a:blip r:embed="rId8"/>
            <a:stretch/>
          </p:blipFill>
          <p:spPr>
            <a:xfrm>
              <a:off x="4182120" y="1563120"/>
              <a:ext cx="1389960" cy="167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9" name="图片 8" descr="L7F1C5`_RF$D@243BNH20)F"/>
            <p:cNvPicPr/>
            <p:nvPr/>
          </p:nvPicPr>
          <p:blipFill>
            <a:blip r:embed="rId9"/>
            <a:stretch/>
          </p:blipFill>
          <p:spPr>
            <a:xfrm flipH="1">
              <a:off x="428400" y="1563120"/>
              <a:ext cx="2554200" cy="96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0" name="文本框 9"/>
            <p:cNvSpPr/>
            <p:nvPr/>
          </p:nvSpPr>
          <p:spPr>
            <a:xfrm>
              <a:off x="913680" y="1667520"/>
              <a:ext cx="1565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我跳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下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1" name="图片 4" descr="@@0(G$_S@HL6PV5@U49@{28"/>
            <p:cNvPicPr/>
            <p:nvPr/>
          </p:nvPicPr>
          <p:blipFill>
            <a:blip r:embed="rId10"/>
            <a:stretch/>
          </p:blipFill>
          <p:spPr>
            <a:xfrm>
              <a:off x="2982960" y="1415880"/>
              <a:ext cx="1442520" cy="15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2" name="图片 7" descr="L7F1C5`_RF$D@243BNH20)F"/>
            <p:cNvPicPr/>
            <p:nvPr/>
          </p:nvPicPr>
          <p:blipFill>
            <a:blip r:embed="rId11"/>
            <a:stretch/>
          </p:blipFill>
          <p:spPr>
            <a:xfrm>
              <a:off x="5416560" y="1428480"/>
              <a:ext cx="2900520" cy="13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3" name="文本框 10"/>
            <p:cNvSpPr/>
            <p:nvPr/>
          </p:nvSpPr>
          <p:spPr>
            <a:xfrm>
              <a:off x="6105960" y="1593360"/>
              <a:ext cx="1906200" cy="9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我跳的个数是你的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倍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文本框 13"/>
            <p:cNvSpPr/>
            <p:nvPr/>
          </p:nvSpPr>
          <p:spPr>
            <a:xfrm>
              <a:off x="3280320" y="2911680"/>
              <a:ext cx="901440" cy="49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小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文本框 14"/>
            <p:cNvSpPr/>
            <p:nvPr/>
          </p:nvSpPr>
          <p:spPr>
            <a:xfrm>
              <a:off x="4514760" y="2971440"/>
              <a:ext cx="901440" cy="49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小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文本框 15"/>
          <p:cNvSpPr/>
          <p:nvPr/>
        </p:nvSpPr>
        <p:spPr>
          <a:xfrm>
            <a:off x="1800360" y="5041800"/>
            <a:ext cx="3446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小丽跳了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8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文本框 17"/>
          <p:cNvSpPr/>
          <p:nvPr/>
        </p:nvSpPr>
        <p:spPr>
          <a:xfrm>
            <a:off x="2654280" y="4156200"/>
            <a:ext cx="24368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=1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组合 2"/>
          <p:cNvGrpSpPr/>
          <p:nvPr/>
        </p:nvGrpSpPr>
        <p:grpSpPr>
          <a:xfrm>
            <a:off x="11160" y="85680"/>
            <a:ext cx="2751120" cy="525600"/>
            <a:chOff x="11160" y="85680"/>
            <a:chExt cx="2751120" cy="525600"/>
          </a:xfrm>
        </p:grpSpPr>
        <p:pic>
          <p:nvPicPr>
            <p:cNvPr id="126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34280" y="85680"/>
              <a:ext cx="26280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0" name="组合 4"/>
            <p:cNvGrpSpPr/>
            <p:nvPr/>
          </p:nvGrpSpPr>
          <p:grpSpPr>
            <a:xfrm>
              <a:off x="11160" y="180720"/>
              <a:ext cx="362880" cy="273960"/>
              <a:chOff x="11160" y="180720"/>
              <a:chExt cx="362880" cy="273960"/>
            </a:xfrm>
          </p:grpSpPr>
          <p:sp>
            <p:nvSpPr>
              <p:cNvPr id="1271" name="椭圆 1"/>
              <p:cNvSpPr/>
              <p:nvPr/>
            </p:nvSpPr>
            <p:spPr>
              <a:xfrm rot="16200000">
                <a:off x="239760" y="345960"/>
                <a:ext cx="9432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2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73880" y="324000"/>
                <a:ext cx="200160" cy="12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3" name="椭圆 29"/>
              <p:cNvSpPr/>
              <p:nvPr/>
            </p:nvSpPr>
            <p:spPr>
              <a:xfrm rot="16200000">
                <a:off x="239760" y="225000"/>
                <a:ext cx="94320" cy="113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73880" y="196920"/>
                <a:ext cx="200160" cy="12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342360"/>
                <a:ext cx="29232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310320"/>
                <a:ext cx="29232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400"/>
                <a:ext cx="29232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180720"/>
                <a:ext cx="292320" cy="112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79" name="圆角矩形 5"/>
          <p:cNvSpPr/>
          <p:nvPr/>
        </p:nvSpPr>
        <p:spPr>
          <a:xfrm>
            <a:off x="428760" y="-9360"/>
            <a:ext cx="2071440" cy="71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文本框 3"/>
          <p:cNvSpPr/>
          <p:nvPr/>
        </p:nvSpPr>
        <p:spPr>
          <a:xfrm>
            <a:off x="673200" y="2306520"/>
            <a:ext cx="703584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求一个数的几倍是多少，就是求几个相同加数的和，即求几个几是多少，用乘法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文本框 4"/>
          <p:cNvSpPr/>
          <p:nvPr/>
        </p:nvSpPr>
        <p:spPr>
          <a:xfrm>
            <a:off x="1428840" y="1355760"/>
            <a:ext cx="55227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求一个数的几倍是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8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4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85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6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93" name="文本框 99"/>
          <p:cNvSpPr/>
          <p:nvPr/>
        </p:nvSpPr>
        <p:spPr>
          <a:xfrm>
            <a:off x="279360" y="777960"/>
            <a:ext cx="8475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 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是（　 ）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是（　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　 ）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（　 ）倍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 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是（　 ）个（　 ），算式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　　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 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以说成（　 ）的（　 ）倍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                    可以说成（　 ）个（　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文本框 3"/>
          <p:cNvSpPr/>
          <p:nvPr/>
        </p:nvSpPr>
        <p:spPr>
          <a:xfrm>
            <a:off x="3375000" y="1450800"/>
            <a:ext cx="6984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文本框 4"/>
          <p:cNvSpPr/>
          <p:nvPr/>
        </p:nvSpPr>
        <p:spPr>
          <a:xfrm>
            <a:off x="6367320" y="1450800"/>
            <a:ext cx="7002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文本框 6"/>
          <p:cNvSpPr/>
          <p:nvPr/>
        </p:nvSpPr>
        <p:spPr>
          <a:xfrm>
            <a:off x="1566720" y="2116080"/>
            <a:ext cx="69876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文本框 7"/>
          <p:cNvSpPr/>
          <p:nvPr/>
        </p:nvSpPr>
        <p:spPr>
          <a:xfrm>
            <a:off x="5302080" y="2116080"/>
            <a:ext cx="69876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文本框 8"/>
          <p:cNvSpPr/>
          <p:nvPr/>
        </p:nvSpPr>
        <p:spPr>
          <a:xfrm>
            <a:off x="3375000" y="2781360"/>
            <a:ext cx="6984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文本框 9"/>
          <p:cNvSpPr/>
          <p:nvPr/>
        </p:nvSpPr>
        <p:spPr>
          <a:xfrm>
            <a:off x="5073480" y="2782800"/>
            <a:ext cx="69876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文本框 10"/>
          <p:cNvSpPr/>
          <p:nvPr/>
        </p:nvSpPr>
        <p:spPr>
          <a:xfrm>
            <a:off x="1830240" y="344808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文本框 11"/>
          <p:cNvSpPr/>
          <p:nvPr/>
        </p:nvSpPr>
        <p:spPr>
          <a:xfrm>
            <a:off x="4073400" y="4087800"/>
            <a:ext cx="69876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文本框 12"/>
          <p:cNvSpPr/>
          <p:nvPr/>
        </p:nvSpPr>
        <p:spPr>
          <a:xfrm>
            <a:off x="5681520" y="4087800"/>
            <a:ext cx="7002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文本框 13"/>
          <p:cNvSpPr/>
          <p:nvPr/>
        </p:nvSpPr>
        <p:spPr>
          <a:xfrm>
            <a:off x="2265480" y="4684680"/>
            <a:ext cx="6998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文本框 14"/>
          <p:cNvSpPr/>
          <p:nvPr/>
        </p:nvSpPr>
        <p:spPr>
          <a:xfrm>
            <a:off x="3781440" y="4753080"/>
            <a:ext cx="6984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6:43:49Z</dcterms:created>
  <dc:creator/>
  <dc:description/>
  <dc:language>en-US</dc:language>
  <cp:lastModifiedBy>万润仪器贸易公司</cp:lastModifiedBy>
  <dcterms:modified xsi:type="dcterms:W3CDTF">2020-08-21T01:21:58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